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hammer.wav" ContentType="audio/x-wav"/>
  <Override PartName="/ppt/media/image12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D4B-8F25-4566-83A2-D51013F4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6A9-B1AB-4D73-B61A-29DBB61E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628C1-E109-4049-A12D-8C51F83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FA0F5-79D0-4E59-8F9E-3AA8820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F0259-7441-4F00-8733-3E7B3BC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AD10B-DA42-4AEC-B367-C5EF33F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C5D81-576B-4EBA-9576-5AB7AE3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298B2-78B3-4EB7-97E4-B1A7E14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732C-D3FC-468C-9E4D-C428CB8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90072-60C7-4116-965E-F9D1B2F2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BD101-CE98-407A-A611-5DAD16EC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863EF-2521-489C-B144-F803FF2C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AA6-383D-4624-B93C-6E78B5B7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570F2-E18F-488D-9364-563FB4A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77364-6A63-4A95-A85F-C5F14EB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0E58A-CC42-4887-9995-AEE66404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C3DF3-29B6-4D2B-A00C-117464A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382FB-6840-470A-9F32-A5077B1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E641C-8C3C-427B-9E31-F77DB5B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9506D-0885-4918-A020-9801EF1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485BE-E4F3-4748-838B-E465657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D01D0-516C-44DE-877A-5D1BFDF3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02BC2-9F13-4E5E-B99B-F4C67BF6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477-2B62-4835-B2F8-E3E76012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6F452-D9A1-4004-8826-D47B069F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F69FC7-8465-4A38-8352-6C81FDC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8D9970-0F5D-4F51-AD49-B3A4D17D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98D586-221D-4F28-9C89-5C085EA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64673-636F-4009-BBC1-2B185AB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B24328-D875-4EBB-AA76-55EBEA2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5CA992-EB70-410D-A318-AFB57E7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7F8061-7623-4296-9E7C-78EC280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CB618E-1413-4D05-AA62-A396D01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68BE94-D28F-4C35-B778-86236C0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945C-BD0E-4D99-8EAF-A6445103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E74F67-300F-48EB-9DF2-608D15A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379782-15A1-4090-A0B8-6A92DE0B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0C086E-50E1-4BF6-83C4-7E7175E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AFBF0-BFC7-469D-BF3B-DADBCDB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9D0AC-5EC7-4F24-88D0-E4DADAA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E731B-3D75-4CDE-BA1A-6215A2B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3149F-B21D-4949-B237-49EF439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FBEBE-A016-403F-9F17-3D429DD5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C3441-FA28-4A7F-B6AD-D8EF3D5B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699B8-25E9-4351-8869-3DC32DA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20E9-AA40-4E97-84C4-338FA5F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9E6A9-19AA-4195-B983-6AF13254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35AE1-81A3-43C5-AF0B-43F4C6C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99F96-0B61-410B-9B63-F2F42FF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E94C2-EE9A-4B43-8BE4-06D0C89B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3643-990A-4008-B13A-B2CD9DFC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490C4F-1EFC-4DB3-9217-34380EF6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A876E3-F9E5-460E-8AD1-C59D762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8CA96F-9E24-4B48-A31D-2635127A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1FCA3F-7CD5-44B9-A6C9-3E1EBE06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711108-C152-41F4-AB3A-38530E2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DCF-58D1-462C-AE95-770D6387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6AACDE-105B-4468-8486-75672B9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36DC79-CC0C-4B24-B6E8-FE663B2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C4CF69-43F7-45C4-9293-ED66349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F73EBE-8B00-4045-9D79-9DCBA24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86D511-C1BC-4478-87CF-85E7188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6B0A08-9328-4E0E-A947-228A5D34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0AC2CF-9B88-4CBC-87FA-B9DAB8A0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744F55-230D-4E1D-9FF9-252B0BF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B708ED-4F06-4083-8014-CDA5C560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042A65-36A4-4F8D-9995-B1239C6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7201-CA3B-421A-A8C2-EE82BEC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9CE285-2538-4B92-A73E-79D6803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BFBBB2-65D9-4674-A39C-75229F6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53078A-43BD-4F9C-B414-5456947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8344E3-24A2-499E-9933-6EE699B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ABE45A-C77A-4419-A1C2-093A455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6C4CE8-05A8-436D-8F88-82352F4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27FC28-29B8-4C1B-BE06-1C21703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B08AF0-FBD9-4C30-9DF5-ECD53629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82A7BC-940D-4110-A76A-83D0277C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1FC126-8A2E-44C7-AB87-52C20E26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2B66-6DEA-40F1-A02C-612BCAA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D9C51B-8DF5-404A-9164-A60007AA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905FB1-5450-405E-B620-1A9918B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300558-0D28-490B-999D-D067EF30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BAB472-94EA-4DA0-884E-817AB9BA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24D5CE-199F-41C2-88F0-7588435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B7C7DD-C1EC-4B43-BDD8-D99E9AE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D4B0B8-1D08-43BE-AB27-0CB340E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43E1B8-D217-4D21-8064-BD5BED4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8CC6DF-23B4-4F8A-AADB-CFF13E2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F70F61-01EF-47AA-94FD-3564FA9D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798-3A01-461F-A540-10120C5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B21CBD-6F85-43A8-9932-83FD816A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209E85-9F9B-4636-9C18-6F9A39DE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895F86-49DC-41E3-9CBD-01E104F7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F8E3AD-B30F-456D-A081-925C52E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43336B-19A2-4559-8305-6DACDEAF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D01977-63EF-475F-8F8C-DE31E5F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5B8026-E11E-4164-A01E-8253D1E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24115B-D9B8-4390-ADD2-975A3B3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8D6E8C-C885-4EF3-A80C-D65F58A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2EF3C2-2528-4FF5-AEAA-3AA911C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7090-EDB1-44E7-AACF-60E1F90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E569FF-5E57-402F-AA9F-C391B12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49CEFF-31D7-43AD-9F0D-A2FECAE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0D1F13-1E38-4005-BFBB-B8DA3EBC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3DB4490-F684-498D-9F1D-A6772F5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E6A012-49C2-44FB-88B7-474128E8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239076-F5C2-4EA1-88D4-24268EB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088C1B-E960-48BE-87ED-4D7AAD6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EC0AF3-A9C3-48D3-A3B5-DB5C405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5D3447-78AD-4344-BD89-3BC0A5CE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348404-7A1B-4A6D-95D7-41E9D6B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1A3-89EB-41CB-B29C-1692200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316-81C4-44B0-9C25-2C3BADE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75E08A-01E4-48DD-BB47-20AAFBD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8D2147-35D2-46D5-8D70-252CDADD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46AEBD-1B63-45D2-9A10-73109193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1AF557-0E37-4247-91B0-FD81B7EE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15849F-EF7C-4C46-ADF8-AD932613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AC43-76D5-4418-BFC8-98F1105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820D-6B24-4AFD-946A-B6118C6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FFD-0980-43B4-AE9E-480EAA92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C23-5DE0-4F6F-B375-71874DFB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6B3D-27CB-4E38-AE9F-3AA0C5F9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DEB8-90C2-4895-9255-5A249BA9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A7BF-D3CF-4506-A3B4-3AF1B77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6C23-02D9-4F71-9A67-378B14A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E67B-368C-4D41-8D7C-0F01646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192-5AAF-41BC-92CA-5B7D815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25C7-4C07-4E2B-B52D-0D6BF45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50D1-06BC-4244-890C-1AB1960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0C0B-7539-43C1-BC13-7A8F141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054F-9A9E-40DA-BD01-658CCB3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4CF1-1D51-48FC-A70C-90E8A99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33B2-9CFF-489C-818A-D6427142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F44F-AF7C-4C13-8FCA-50C18B7F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8F6D-CB72-4906-847A-A842F07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2D29-D52F-4CC0-BA2D-7E2BC3BC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4F7C-7BBE-4D3E-9007-6DB3C0D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C55-C792-4C37-85FD-586DF02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596D-7A4A-49CA-B3E8-36E675EF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04D4-0B48-4DFB-9979-68609AB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7A99-24AE-4C94-9AF1-57574AC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35CE-4523-4874-9E13-A9835FF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90EC-95F8-48AC-9F4D-19D80076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A87C-AF08-4945-A3C1-7BD30E7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8877-4497-45E0-B422-76541E4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313A-04BE-43B3-B715-96666C3D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1C9D-A770-43C3-A85B-866AA5B3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31D6-0F7B-4E39-81AE-5F6B4F2D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471-99F8-4C2F-AE7E-A2EE1B3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5FDB-A217-43B2-BB07-A37B1B3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6D4C-C631-4603-90BB-45EEB9A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C145-1CE6-48BA-B804-659990A9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53CA-7749-4C88-B4EE-F7ACBF27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EAC5-7AE2-4777-8CA4-9D1F269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C998-C895-492C-BC3E-B3C372F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72C6-017B-40A8-B2A6-DFAD2695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CE23-6968-4454-AAC3-B1E23FF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AEEB-10FD-4882-8D28-9CAC84B1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5ACD-B929-46FC-BA26-F1581764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C44-F150-4C46-BE48-737B368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FF1B-7440-4C90-892C-50366E7E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82124-86F6-4277-865B-6D12D45C44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AA979D-64CD-4083-BCDC-C29F103E10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EEAC9-C1E5-4306-A228-866B86ED83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352ED-6FD8-4600-B47F-C2906E8888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35AF3-30B3-4C48-9068-380E1252EB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3EA0E-65D7-4D8B-9F15-B14BC307E5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77739-2317-483B-8A3F-73A09C3B54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E9DD4-531A-4307-B9D7-68ADA96D88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5838B-3933-4730-9E43-974CC79AB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C7B-A35B-4B65-ABA7-BF2B652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FCEBB-6BAC-44E7-AA91-73A8FAD7B6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27BCE-FC82-4BA6-B254-E7C22E1590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773A5-57B7-4E3B-B69B-71C90C5BE8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2FE325-F30A-4577-BBE4-2EAFF9E0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7518F5-7C2B-4F41-B205-B96F6C9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C9FBA-80D8-4B4D-A294-55882DE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DC161-F305-4136-867B-4E4C56D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17266-8AB4-4868-B166-35CCD0BF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5BF85F-AA8A-47F2-98FD-1D540AC4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F55F0-9B90-4446-9949-2F05A1A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1E6-CA43-403E-BD57-C461DB4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B21ED-4C00-49C6-B33A-4FE56B8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2450BA-D864-4F92-9747-33D2915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A8612-D7B8-43CA-A548-80325A6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03B73-7F25-4030-A092-E2641D91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6AB70-B1E5-4DF3-A1F2-1470A9C9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0F715-588B-4F7A-A2DC-6DEF856E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7BA8D-B7EA-4A39-BAC9-33E43C3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162484-9894-4D70-91DF-D359A39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FAD9C9-BDCF-48FB-A459-995E0285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9EBCA5-7370-4E50-9F4E-E31091E7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224-39AA-4556-93EE-CD05573C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97D5B5-0BAD-4C80-BBCC-8809D1A2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5DB22-6E2F-4542-88F1-C99F6C63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DF2B00-E1E5-421F-8926-4A24EFB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9C3A4-90B5-4387-8048-ADFF22B3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D58288-4689-4F6C-BFD3-EE51BD9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C6844-2060-4BFC-861B-7F567A8D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59AE96-5683-4D3F-8B40-8839A76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EB1ED-31C5-4D90-88BC-9C7DDB11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BC4F6-AE9F-4BBB-82C4-40D30BD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71263-45CF-4A79-9C51-180A736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F507-2507-408B-9925-06A9E2F8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C8CC-382D-482F-A9B3-5511017A5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64C-9548-4DDB-B052-34BDC68B1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042-1698-4399-99DF-5D9411E0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B0A-B78A-45C3-B5DA-5652B0EA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DE9-A15F-4747-B350-9BF61088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992-F352-4581-ADD8-B8F56B82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D6EE-32B8-42A2-AEF8-CF26BAC5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16B-4B8F-44E9-99CA-C4B4B356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900-C8CB-46D1-9DE3-D18C9B66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0A0-005F-4116-9194-B2083957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082F-12B7-4AE2-B834-606D2A1C7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pj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EA6C-8426-4D99-B831-6CEB95543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6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8E58C8F-F225-4C40-94DF-39C12A6F3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155-DBA0-4FF9-821C-411B01DFD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1095-9C18-4EE2-829E-738384392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3F3A-8BA1-4DEB-A7EE-187FC20B4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7.jpeg"/><Relationship Id="rId7" Type="http://schemas.openxmlformats.org/officeDocument/2006/relationships/image" Target="../media/image10.jpeg"/><Relationship Id="rId8" Type="http://schemas.openxmlformats.org/officeDocument/2006/relationships/image" Target="../media/image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位置的确定（十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15" descr="图片1"/>
          <p:cNvPicPr/>
          <p:nvPr/>
        </p:nvPicPr>
        <p:blipFill>
          <a:blip r:embed="rId1"/>
          <a:stretch/>
        </p:blipFill>
        <p:spPr>
          <a:xfrm>
            <a:off x="703440" y="4592520"/>
            <a:ext cx="1606320" cy="1562040"/>
          </a:xfrm>
          <a:prstGeom prst="rect">
            <a:avLst/>
          </a:prstGeom>
          <a:ln w="0">
            <a:noFill/>
          </a:ln>
        </p:spPr>
      </p:pic>
      <p:grpSp>
        <p:nvGrpSpPr>
          <p:cNvPr id="698" name="Group 18"/>
          <p:cNvGrpSpPr/>
          <p:nvPr/>
        </p:nvGrpSpPr>
        <p:grpSpPr>
          <a:xfrm>
            <a:off x="406440" y="797040"/>
            <a:ext cx="3685680" cy="3525480"/>
            <a:chOff x="406440" y="797040"/>
            <a:chExt cx="3685680" cy="3525480"/>
          </a:xfrm>
        </p:grpSpPr>
        <p:sp>
          <p:nvSpPr>
            <p:cNvPr id="699" name="Line 19"/>
            <p:cNvSpPr/>
            <p:nvPr/>
          </p:nvSpPr>
          <p:spPr>
            <a:xfrm>
              <a:off x="891720" y="2535480"/>
              <a:ext cx="2850480" cy="10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0"/>
            <p:cNvSpPr/>
            <p:nvPr/>
          </p:nvSpPr>
          <p:spPr>
            <a:xfrm flipV="1">
              <a:off x="2253960" y="1172880"/>
              <a:ext cx="0" cy="27615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1"/>
            <p:cNvSpPr/>
            <p:nvPr/>
          </p:nvSpPr>
          <p:spPr>
            <a:xfrm>
              <a:off x="3651120" y="23133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2"/>
            <p:cNvSpPr/>
            <p:nvPr/>
          </p:nvSpPr>
          <p:spPr>
            <a:xfrm>
              <a:off x="2003400" y="3801960"/>
              <a:ext cx="47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3"/>
            <p:cNvSpPr/>
            <p:nvPr/>
          </p:nvSpPr>
          <p:spPr>
            <a:xfrm>
              <a:off x="406440" y="2305440"/>
              <a:ext cx="3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24"/>
            <p:cNvSpPr/>
            <p:nvPr/>
          </p:nvSpPr>
          <p:spPr>
            <a:xfrm>
              <a:off x="2016360" y="79704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5"/>
            <p:cNvSpPr/>
            <p:nvPr/>
          </p:nvSpPr>
          <p:spPr>
            <a:xfrm>
              <a:off x="2193840" y="2463840"/>
              <a:ext cx="131400" cy="120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 Box 27"/>
          <p:cNvSpPr/>
          <p:nvPr/>
        </p:nvSpPr>
        <p:spPr>
          <a:xfrm>
            <a:off x="857880" y="1141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3087720" y="993600"/>
            <a:ext cx="49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宝藏在船所在中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北偏东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的方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9457 C 0.04288 -0.03838 0.08628 0.0185 0.1309 0.02543 C 0.17569 0.03306 0.27222 -0.0222 0.26875 -0.05642 C 0.26527 -0.09226 0.14288 -0.16254 0.11093 -0.1889 C 0.07916 -0.2148 0.08767 -0.19237 0.07777 -0.21156 C 0.06771 -0.23098 0.0592 -0.26682 0.05104 -0.30104 E">
                                      <p:cBhvr>
                                        <p:cTn id="6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8"/>
          <p:cNvSpPr/>
          <p:nvPr/>
        </p:nvSpPr>
        <p:spPr>
          <a:xfrm flipH="1" flipV="1">
            <a:off x="3527280" y="1653840"/>
            <a:ext cx="14400" cy="267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rc 16"/>
          <p:cNvSpPr/>
          <p:nvPr/>
        </p:nvSpPr>
        <p:spPr>
          <a:xfrm>
            <a:off x="3541680" y="3745080"/>
            <a:ext cx="216000" cy="174600"/>
          </a:xfrm>
          <a:custGeom>
            <a:avLst/>
            <a:gdLst>
              <a:gd name="textAreaLeft" fmla="*/ 0 w 216000"/>
              <a:gd name="textAreaRight" fmla="*/ 216360 w 216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3501720" y="32749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r>
              <a:rPr b="1" lang="en-US" sz="20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3236760" y="1392120"/>
            <a:ext cx="652680" cy="347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3278160" y="6667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3"/>
          <p:cNvSpPr/>
          <p:nvPr/>
        </p:nvSpPr>
        <p:spPr>
          <a:xfrm>
            <a:off x="3003480" y="4324320"/>
            <a:ext cx="11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轮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4"/>
          <p:cNvSpPr/>
          <p:nvPr/>
        </p:nvSpPr>
        <p:spPr>
          <a:xfrm>
            <a:off x="471996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宝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97"/>
          <p:cNvGrpSpPr/>
          <p:nvPr/>
        </p:nvGrpSpPr>
        <p:grpSpPr>
          <a:xfrm>
            <a:off x="5194800" y="4100400"/>
            <a:ext cx="3607200" cy="544320"/>
            <a:chOff x="5194800" y="4100400"/>
            <a:chExt cx="3607200" cy="544320"/>
          </a:xfrm>
        </p:grpSpPr>
        <p:sp>
          <p:nvSpPr>
            <p:cNvPr id="716" name="Line 89"/>
            <p:cNvSpPr/>
            <p:nvPr/>
          </p:nvSpPr>
          <p:spPr>
            <a:xfrm>
              <a:off x="5319360" y="4644720"/>
              <a:ext cx="265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96"/>
            <p:cNvGrpSpPr/>
            <p:nvPr/>
          </p:nvGrpSpPr>
          <p:grpSpPr>
            <a:xfrm>
              <a:off x="5194800" y="4100400"/>
              <a:ext cx="3607200" cy="543960"/>
              <a:chOff x="5194800" y="4100400"/>
              <a:chExt cx="3607200" cy="543960"/>
            </a:xfrm>
          </p:grpSpPr>
          <p:sp>
            <p:nvSpPr>
              <p:cNvPr id="718" name="Text Box 44"/>
              <p:cNvSpPr/>
              <p:nvPr/>
            </p:nvSpPr>
            <p:spPr>
              <a:xfrm>
                <a:off x="5194800" y="4119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53"/>
              <p:cNvSpPr/>
              <p:nvPr/>
            </p:nvSpPr>
            <p:spPr>
              <a:xfrm>
                <a:off x="7931160" y="4120920"/>
                <a:ext cx="87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55"/>
              <p:cNvSpPr/>
              <p:nvPr/>
            </p:nvSpPr>
            <p:spPr>
              <a:xfrm>
                <a:off x="6484680" y="411768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57"/>
              <p:cNvSpPr/>
              <p:nvPr/>
            </p:nvSpPr>
            <p:spPr>
              <a:xfrm>
                <a:off x="5844960" y="4117680"/>
                <a:ext cx="35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90"/>
              <p:cNvSpPr/>
              <p:nvPr/>
            </p:nvSpPr>
            <p:spPr>
              <a:xfrm flipV="1">
                <a:off x="5332320" y="4485600"/>
                <a:ext cx="0" cy="15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91"/>
              <p:cNvSpPr/>
              <p:nvPr/>
            </p:nvSpPr>
            <p:spPr>
              <a:xfrm flipV="1">
                <a:off x="6001920" y="4528800"/>
                <a:ext cx="0" cy="10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92"/>
              <p:cNvSpPr/>
              <p:nvPr/>
            </p:nvSpPr>
            <p:spPr>
              <a:xfrm flipV="1">
                <a:off x="66560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93"/>
              <p:cNvSpPr/>
              <p:nvPr/>
            </p:nvSpPr>
            <p:spPr>
              <a:xfrm flipV="1">
                <a:off x="7314840" y="4514400"/>
                <a:ext cx="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4"/>
              <p:cNvSpPr/>
              <p:nvPr/>
            </p:nvSpPr>
            <p:spPr>
              <a:xfrm flipV="1">
                <a:off x="7973640" y="4514400"/>
                <a:ext cx="0" cy="12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95"/>
              <p:cNvSpPr/>
              <p:nvPr/>
            </p:nvSpPr>
            <p:spPr>
              <a:xfrm>
                <a:off x="7151400" y="4100400"/>
                <a:ext cx="3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8" name="Picture 98" descr="图片19"/>
          <p:cNvPicPr/>
          <p:nvPr/>
        </p:nvPicPr>
        <p:blipFill>
          <a:blip r:embed="rId1"/>
          <a:stretch/>
        </p:blipFill>
        <p:spPr>
          <a:xfrm rot="1786200">
            <a:off x="3858840" y="808200"/>
            <a:ext cx="623880" cy="3625560"/>
          </a:xfrm>
          <a:prstGeom prst="rect">
            <a:avLst/>
          </a:prstGeom>
          <a:ln w="0">
            <a:noFill/>
          </a:ln>
        </p:spPr>
      </p:pic>
      <p:sp>
        <p:nvSpPr>
          <p:cNvPr id="729" name="Line 101"/>
          <p:cNvSpPr/>
          <p:nvPr/>
        </p:nvSpPr>
        <p:spPr>
          <a:xfrm flipV="1">
            <a:off x="3554280" y="2585880"/>
            <a:ext cx="986040" cy="171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3"/>
          <p:cNvSpPr/>
          <p:nvPr/>
        </p:nvSpPr>
        <p:spPr>
          <a:xfrm>
            <a:off x="1955520" y="5030640"/>
            <a:ext cx="47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从上图看，宝藏在轮船的北偏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30</a:t>
            </a:r>
            <a:r>
              <a:rPr b="1" lang="en-US" sz="3200" spc="-1" strike="noStrike" baseline="30000">
                <a:solidFill>
                  <a:srgbClr val="3333ff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上，实际距离是（   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4"/>
          <p:cNvSpPr/>
          <p:nvPr/>
        </p:nvSpPr>
        <p:spPr>
          <a:xfrm>
            <a:off x="6771240" y="503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6"/>
          <p:cNvSpPr/>
          <p:nvPr/>
        </p:nvSpPr>
        <p:spPr>
          <a:xfrm>
            <a:off x="5893920" y="550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8"/>
          <p:cNvSpPr/>
          <p:nvPr/>
        </p:nvSpPr>
        <p:spPr>
          <a:xfrm>
            <a:off x="1292400" y="1486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藏宝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09"/>
          <p:cNvSpPr/>
          <p:nvPr/>
        </p:nvSpPr>
        <p:spPr>
          <a:xfrm flipH="1" flipV="1">
            <a:off x="4485600" y="2493360"/>
            <a:ext cx="128520" cy="129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10"/>
          <p:cNvSpPr/>
          <p:nvPr/>
        </p:nvSpPr>
        <p:spPr>
          <a:xfrm>
            <a:off x="3498840" y="4224240"/>
            <a:ext cx="103320" cy="131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11" descr="图片3"/>
          <p:cNvPicPr/>
          <p:nvPr/>
        </p:nvPicPr>
        <p:blipFill>
          <a:blip r:embed="rId2"/>
          <a:stretch/>
        </p:blipFill>
        <p:spPr>
          <a:xfrm>
            <a:off x="5910120" y="1052640"/>
            <a:ext cx="1360800" cy="1828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12"/>
          <p:cNvSpPr/>
          <p:nvPr/>
        </p:nvSpPr>
        <p:spPr>
          <a:xfrm>
            <a:off x="7277040" y="182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勇气的钥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55"/>
          <p:cNvSpPr/>
          <p:nvPr/>
        </p:nvSpPr>
        <p:spPr>
          <a:xfrm>
            <a:off x="1041480" y="602928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０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 2     3    4     5    6    7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47"/>
          <p:cNvGrpSpPr/>
          <p:nvPr/>
        </p:nvGrpSpPr>
        <p:grpSpPr>
          <a:xfrm>
            <a:off x="863640" y="1989000"/>
            <a:ext cx="4265640" cy="4344480"/>
            <a:chOff x="863640" y="1989000"/>
            <a:chExt cx="4265640" cy="4344480"/>
          </a:xfrm>
        </p:grpSpPr>
        <p:sp>
          <p:nvSpPr>
            <p:cNvPr id="740" name="Line 17"/>
            <p:cNvSpPr/>
            <p:nvPr/>
          </p:nvSpPr>
          <p:spPr>
            <a:xfrm>
              <a:off x="2173320" y="2151000"/>
              <a:ext cx="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2"/>
            <p:cNvSpPr/>
            <p:nvPr/>
          </p:nvSpPr>
          <p:spPr>
            <a:xfrm>
              <a:off x="1998720" y="366228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"/>
            <p:cNvSpPr/>
            <p:nvPr/>
          </p:nvSpPr>
          <p:spPr>
            <a:xfrm>
              <a:off x="2646360" y="2205000"/>
              <a:ext cx="9716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4"/>
            <p:cNvSpPr/>
            <p:nvPr/>
          </p:nvSpPr>
          <p:spPr>
            <a:xfrm flipH="1">
              <a:off x="2646000" y="2151000"/>
              <a:ext cx="97164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"/>
            <p:cNvSpPr/>
            <p:nvPr/>
          </p:nvSpPr>
          <p:spPr>
            <a:xfrm flipH="1">
              <a:off x="2646000" y="5173560"/>
              <a:ext cx="97164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"/>
            <p:cNvSpPr/>
            <p:nvPr/>
          </p:nvSpPr>
          <p:spPr>
            <a:xfrm>
              <a:off x="2646360" y="5173560"/>
              <a:ext cx="971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1243080" y="2151000"/>
              <a:ext cx="3778200" cy="3886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8"/>
            <p:cNvSpPr/>
            <p:nvPr/>
          </p:nvSpPr>
          <p:spPr>
            <a:xfrm>
              <a:off x="1243080" y="259092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"/>
            <p:cNvSpPr/>
            <p:nvPr/>
          </p:nvSpPr>
          <p:spPr>
            <a:xfrm>
              <a:off x="1243080" y="2965320"/>
              <a:ext cx="377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0"/>
            <p:cNvSpPr/>
            <p:nvPr/>
          </p:nvSpPr>
          <p:spPr>
            <a:xfrm>
              <a:off x="1243080" y="346716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>
              <a:off x="1243080" y="384336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>
              <a:off x="1243080" y="428148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3"/>
            <p:cNvSpPr/>
            <p:nvPr/>
          </p:nvSpPr>
          <p:spPr>
            <a:xfrm>
              <a:off x="1243080" y="4719600"/>
              <a:ext cx="37782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4"/>
            <p:cNvSpPr/>
            <p:nvPr/>
          </p:nvSpPr>
          <p:spPr>
            <a:xfrm>
              <a:off x="1243080" y="515952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5"/>
            <p:cNvSpPr/>
            <p:nvPr/>
          </p:nvSpPr>
          <p:spPr>
            <a:xfrm>
              <a:off x="1243080" y="5597640"/>
              <a:ext cx="377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6"/>
            <p:cNvSpPr/>
            <p:nvPr/>
          </p:nvSpPr>
          <p:spPr>
            <a:xfrm>
              <a:off x="1706400" y="2151000"/>
              <a:ext cx="180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"/>
            <p:cNvSpPr/>
            <p:nvPr/>
          </p:nvSpPr>
          <p:spPr>
            <a:xfrm>
              <a:off x="263844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9"/>
            <p:cNvSpPr/>
            <p:nvPr/>
          </p:nvSpPr>
          <p:spPr>
            <a:xfrm>
              <a:off x="3102120" y="2151000"/>
              <a:ext cx="288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0"/>
            <p:cNvSpPr/>
            <p:nvPr/>
          </p:nvSpPr>
          <p:spPr>
            <a:xfrm>
              <a:off x="362592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1"/>
            <p:cNvSpPr/>
            <p:nvPr/>
          </p:nvSpPr>
          <p:spPr>
            <a:xfrm>
              <a:off x="409104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2"/>
            <p:cNvSpPr/>
            <p:nvPr/>
          </p:nvSpPr>
          <p:spPr>
            <a:xfrm>
              <a:off x="4556160" y="2151000"/>
              <a:ext cx="1440" cy="16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3"/>
            <p:cNvSpPr/>
            <p:nvPr/>
          </p:nvSpPr>
          <p:spPr>
            <a:xfrm>
              <a:off x="455616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4"/>
            <p:cNvSpPr/>
            <p:nvPr/>
          </p:nvSpPr>
          <p:spPr>
            <a:xfrm>
              <a:off x="409104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5"/>
            <p:cNvSpPr/>
            <p:nvPr/>
          </p:nvSpPr>
          <p:spPr>
            <a:xfrm>
              <a:off x="362592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26"/>
            <p:cNvSpPr/>
            <p:nvPr/>
          </p:nvSpPr>
          <p:spPr>
            <a:xfrm>
              <a:off x="3102120" y="4281480"/>
              <a:ext cx="288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7"/>
            <p:cNvSpPr/>
            <p:nvPr/>
          </p:nvSpPr>
          <p:spPr>
            <a:xfrm>
              <a:off x="2638440" y="4281480"/>
              <a:ext cx="144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8"/>
            <p:cNvSpPr/>
            <p:nvPr/>
          </p:nvSpPr>
          <p:spPr>
            <a:xfrm>
              <a:off x="2173320" y="4281480"/>
              <a:ext cx="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9"/>
            <p:cNvSpPr/>
            <p:nvPr/>
          </p:nvSpPr>
          <p:spPr>
            <a:xfrm>
              <a:off x="1706400" y="4281480"/>
              <a:ext cx="1800" cy="17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0"/>
            <p:cNvSpPr/>
            <p:nvPr/>
          </p:nvSpPr>
          <p:spPr>
            <a:xfrm>
              <a:off x="3916440" y="3279600"/>
              <a:ext cx="349200" cy="37476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1"/>
            <p:cNvSpPr/>
            <p:nvPr/>
          </p:nvSpPr>
          <p:spPr>
            <a:xfrm>
              <a:off x="3916440" y="3279600"/>
              <a:ext cx="349200" cy="3747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2"/>
            <p:cNvSpPr/>
            <p:nvPr/>
          </p:nvSpPr>
          <p:spPr>
            <a:xfrm flipH="1" flipV="1" rot="16200000">
              <a:off x="1985040" y="4546080"/>
              <a:ext cx="374760" cy="34776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3"/>
            <p:cNvSpPr/>
            <p:nvPr/>
          </p:nvSpPr>
          <p:spPr>
            <a:xfrm flipH="1" flipV="1" rot="16200000">
              <a:off x="1985040" y="4546080"/>
              <a:ext cx="374760" cy="3477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4"/>
            <p:cNvSpPr/>
            <p:nvPr/>
          </p:nvSpPr>
          <p:spPr>
            <a:xfrm flipH="1" flipV="1" rot="16200000">
              <a:off x="1519200" y="4983480"/>
              <a:ext cx="37764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5"/>
            <p:cNvSpPr/>
            <p:nvPr/>
          </p:nvSpPr>
          <p:spPr>
            <a:xfrm flipH="1" flipV="1" rot="16200000">
              <a:off x="1519200" y="4983480"/>
              <a:ext cx="37764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6"/>
            <p:cNvSpPr/>
            <p:nvPr/>
          </p:nvSpPr>
          <p:spPr>
            <a:xfrm flipH="1" flipV="1" rot="16200000">
              <a:off x="3903480" y="4545360"/>
              <a:ext cx="37476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"/>
            <p:cNvSpPr/>
            <p:nvPr/>
          </p:nvSpPr>
          <p:spPr>
            <a:xfrm flipH="1" flipV="1" rot="16200000">
              <a:off x="4367160" y="4983480"/>
              <a:ext cx="377640" cy="349200"/>
            </a:xfrm>
            <a:prstGeom prst="plus">
              <a:avLst>
                <a:gd name="adj" fmla="val 329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9"/>
            <p:cNvSpPr/>
            <p:nvPr/>
          </p:nvSpPr>
          <p:spPr>
            <a:xfrm flipH="1" flipV="1" rot="16200000">
              <a:off x="4367160" y="4983480"/>
              <a:ext cx="37764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0"/>
            <p:cNvSpPr/>
            <p:nvPr/>
          </p:nvSpPr>
          <p:spPr>
            <a:xfrm>
              <a:off x="1135080" y="279864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1"/>
            <p:cNvSpPr/>
            <p:nvPr/>
          </p:nvSpPr>
          <p:spPr>
            <a:xfrm>
              <a:off x="2970360" y="279864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2"/>
            <p:cNvSpPr/>
            <p:nvPr/>
          </p:nvSpPr>
          <p:spPr>
            <a:xfrm>
              <a:off x="4805280" y="495792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3"/>
            <p:cNvSpPr/>
            <p:nvPr/>
          </p:nvSpPr>
          <p:spPr>
            <a:xfrm>
              <a:off x="2916360" y="3338640"/>
              <a:ext cx="32364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4"/>
            <p:cNvSpPr/>
            <p:nvPr/>
          </p:nvSpPr>
          <p:spPr>
            <a:xfrm>
              <a:off x="2484360" y="506556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5"/>
            <p:cNvSpPr/>
            <p:nvPr/>
          </p:nvSpPr>
          <p:spPr>
            <a:xfrm>
              <a:off x="3456000" y="501156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6"/>
            <p:cNvSpPr/>
            <p:nvPr/>
          </p:nvSpPr>
          <p:spPr>
            <a:xfrm>
              <a:off x="2484360" y="198900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7"/>
            <p:cNvSpPr/>
            <p:nvPr/>
          </p:nvSpPr>
          <p:spPr>
            <a:xfrm>
              <a:off x="2916360" y="544356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"/>
            <p:cNvSpPr/>
            <p:nvPr/>
          </p:nvSpPr>
          <p:spPr>
            <a:xfrm>
              <a:off x="2970360" y="1989000"/>
              <a:ext cx="32364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9"/>
            <p:cNvSpPr/>
            <p:nvPr/>
          </p:nvSpPr>
          <p:spPr>
            <a:xfrm>
              <a:off x="3887640" y="409428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50"/>
            <p:cNvSpPr/>
            <p:nvPr/>
          </p:nvSpPr>
          <p:spPr>
            <a:xfrm>
              <a:off x="3941640" y="326232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1"/>
            <p:cNvSpPr/>
            <p:nvPr/>
          </p:nvSpPr>
          <p:spPr>
            <a:xfrm>
              <a:off x="4805280" y="3284640"/>
              <a:ext cx="3240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2"/>
            <p:cNvSpPr/>
            <p:nvPr/>
          </p:nvSpPr>
          <p:spPr>
            <a:xfrm>
              <a:off x="3456000" y="5821200"/>
              <a:ext cx="32400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56"/>
            <p:cNvSpPr/>
            <p:nvPr/>
          </p:nvSpPr>
          <p:spPr>
            <a:xfrm>
              <a:off x="865080" y="1992240"/>
              <a:ext cx="2700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57"/>
            <p:cNvSpPr/>
            <p:nvPr/>
          </p:nvSpPr>
          <p:spPr>
            <a:xfrm>
              <a:off x="863640" y="4079880"/>
              <a:ext cx="27000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6"/>
            <p:cNvSpPr/>
            <p:nvPr/>
          </p:nvSpPr>
          <p:spPr>
            <a:xfrm flipH="1" flipV="1" rot="16200000">
              <a:off x="3875040" y="4545000"/>
              <a:ext cx="432000" cy="349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Oval 53"/>
          <p:cNvSpPr/>
          <p:nvPr/>
        </p:nvSpPr>
        <p:spPr>
          <a:xfrm>
            <a:off x="5791320" y="219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4"/>
          <p:cNvSpPr/>
          <p:nvPr/>
        </p:nvSpPr>
        <p:spPr>
          <a:xfrm>
            <a:off x="6248520" y="219060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58"/>
          <p:cNvSpPr/>
          <p:nvPr/>
        </p:nvSpPr>
        <p:spPr>
          <a:xfrm>
            <a:off x="5791320" y="30542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9"/>
          <p:cNvSpPr/>
          <p:nvPr/>
        </p:nvSpPr>
        <p:spPr>
          <a:xfrm>
            <a:off x="6172200" y="30542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1"/>
          <p:cNvSpPr/>
          <p:nvPr/>
        </p:nvSpPr>
        <p:spPr>
          <a:xfrm>
            <a:off x="6132240" y="391968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8"/>
          <p:cNvSpPr/>
          <p:nvPr/>
        </p:nvSpPr>
        <p:spPr>
          <a:xfrm>
            <a:off x="6132240" y="480528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9"/>
          <p:cNvSpPr/>
          <p:nvPr/>
        </p:nvSpPr>
        <p:spPr>
          <a:xfrm>
            <a:off x="5862600" y="4854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0"/>
          <p:cNvSpPr/>
          <p:nvPr/>
        </p:nvSpPr>
        <p:spPr>
          <a:xfrm>
            <a:off x="6132240" y="5742000"/>
            <a:ext cx="17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1"/>
          <p:cNvSpPr/>
          <p:nvPr/>
        </p:nvSpPr>
        <p:spPr>
          <a:xfrm>
            <a:off x="7290360" y="7375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72"/>
          <p:cNvSpPr/>
          <p:nvPr/>
        </p:nvSpPr>
        <p:spPr>
          <a:xfrm>
            <a:off x="5862600" y="5791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3"/>
          <p:cNvSpPr/>
          <p:nvPr/>
        </p:nvSpPr>
        <p:spPr>
          <a:xfrm>
            <a:off x="609480" y="6858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规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列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在前面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行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在后面，请把右边的象棋棋子的位置表出来，例：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1"/>
          <p:cNvSpPr/>
          <p:nvPr/>
        </p:nvSpPr>
        <p:spPr>
          <a:xfrm>
            <a:off x="65530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82"/>
          <p:cNvSpPr/>
          <p:nvPr/>
        </p:nvSpPr>
        <p:spPr>
          <a:xfrm>
            <a:off x="6553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83"/>
          <p:cNvSpPr/>
          <p:nvPr/>
        </p:nvSpPr>
        <p:spPr>
          <a:xfrm>
            <a:off x="6477120" y="441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4"/>
          <p:cNvSpPr/>
          <p:nvPr/>
        </p:nvSpPr>
        <p:spPr>
          <a:xfrm>
            <a:off x="647712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85"/>
          <p:cNvSpPr/>
          <p:nvPr/>
        </p:nvSpPr>
        <p:spPr>
          <a:xfrm>
            <a:off x="64771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44"/>
          <p:cNvSpPr/>
          <p:nvPr/>
        </p:nvSpPr>
        <p:spPr>
          <a:xfrm>
            <a:off x="5257800" y="1143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5"/>
          <p:cNvSpPr/>
          <p:nvPr/>
        </p:nvSpPr>
        <p:spPr>
          <a:xfrm>
            <a:off x="5600880" y="113184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46"/>
          <p:cNvSpPr/>
          <p:nvPr/>
        </p:nvSpPr>
        <p:spPr>
          <a:xfrm>
            <a:off x="5759280" y="400536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71280" y="1159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量角器和直尺找出各种动物相对于大象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2" descr="5"/>
          <p:cNvPicPr/>
          <p:nvPr/>
        </p:nvPicPr>
        <p:blipFill>
          <a:blip r:embed="rId1"/>
          <a:stretch/>
        </p:blipFill>
        <p:spPr>
          <a:xfrm>
            <a:off x="2616120" y="4941720"/>
            <a:ext cx="1381320" cy="863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3" descr="1"/>
          <p:cNvPicPr/>
          <p:nvPr/>
        </p:nvPicPr>
        <p:blipFill>
          <a:blip r:embed="rId2"/>
          <a:stretch/>
        </p:blipFill>
        <p:spPr>
          <a:xfrm>
            <a:off x="469800" y="1413000"/>
            <a:ext cx="1084320" cy="86364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4" descr="2"/>
          <p:cNvPicPr/>
          <p:nvPr/>
        </p:nvPicPr>
        <p:blipFill>
          <a:blip r:embed="rId3"/>
          <a:stretch/>
        </p:blipFill>
        <p:spPr>
          <a:xfrm>
            <a:off x="36360" y="4941720"/>
            <a:ext cx="1381320" cy="8636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5" descr="3"/>
          <p:cNvPicPr/>
          <p:nvPr/>
        </p:nvPicPr>
        <p:blipFill>
          <a:blip r:embed="rId4"/>
          <a:stretch/>
        </p:blipFill>
        <p:spPr>
          <a:xfrm>
            <a:off x="2701800" y="2997360"/>
            <a:ext cx="1298880" cy="863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6" descr="4"/>
          <p:cNvPicPr/>
          <p:nvPr/>
        </p:nvPicPr>
        <p:blipFill>
          <a:blip r:embed="rId5"/>
          <a:stretch/>
        </p:blipFill>
        <p:spPr>
          <a:xfrm>
            <a:off x="2844720" y="1268280"/>
            <a:ext cx="1235160" cy="863640"/>
          </a:xfrm>
          <a:prstGeom prst="rect">
            <a:avLst/>
          </a:prstGeom>
          <a:ln w="0">
            <a:noFill/>
          </a:ln>
        </p:spPr>
      </p:pic>
      <p:sp>
        <p:nvSpPr>
          <p:cNvPr id="819" name="Line 17"/>
          <p:cNvSpPr/>
          <p:nvPr/>
        </p:nvSpPr>
        <p:spPr>
          <a:xfrm>
            <a:off x="1189080" y="2205000"/>
            <a:ext cx="201600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8"/>
          <p:cNvSpPr/>
          <p:nvPr/>
        </p:nvSpPr>
        <p:spPr>
          <a:xfrm flipV="1">
            <a:off x="1117440" y="2205000"/>
            <a:ext cx="216072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1765440" y="3429000"/>
            <a:ext cx="93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0"/>
          <p:cNvSpPr/>
          <p:nvPr/>
        </p:nvSpPr>
        <p:spPr>
          <a:xfrm flipV="1">
            <a:off x="2197080" y="299700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2125800" y="335772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1189080" y="220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3"/>
          <p:cNvSpPr/>
          <p:nvPr/>
        </p:nvSpPr>
        <p:spPr>
          <a:xfrm>
            <a:off x="3205080" y="220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4"/>
          <p:cNvSpPr/>
          <p:nvPr/>
        </p:nvSpPr>
        <p:spPr>
          <a:xfrm>
            <a:off x="1117440" y="4653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5"/>
          <p:cNvSpPr/>
          <p:nvPr/>
        </p:nvSpPr>
        <p:spPr>
          <a:xfrm>
            <a:off x="3133800" y="4724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26"/>
          <p:cNvSpPr/>
          <p:nvPr/>
        </p:nvSpPr>
        <p:spPr>
          <a:xfrm>
            <a:off x="4067280" y="1197000"/>
            <a:ext cx="358560" cy="12254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7"/>
          <p:cNvSpPr/>
          <p:nvPr/>
        </p:nvSpPr>
        <p:spPr>
          <a:xfrm>
            <a:off x="4068720" y="119556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29"/>
          <p:cNvSpPr/>
          <p:nvPr/>
        </p:nvSpPr>
        <p:spPr>
          <a:xfrm rot="10800000">
            <a:off x="4068360" y="1842840"/>
            <a:ext cx="358920" cy="649080"/>
          </a:xfrm>
          <a:prstGeom prst="triangle">
            <a:avLst>
              <a:gd name="adj" fmla="val 4188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211640" y="83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36"/>
          <p:cNvGrpSpPr/>
          <p:nvPr/>
        </p:nvGrpSpPr>
        <p:grpSpPr>
          <a:xfrm>
            <a:off x="1044720" y="6308280"/>
            <a:ext cx="1441440" cy="144720"/>
            <a:chOff x="1044720" y="6308280"/>
            <a:chExt cx="1441440" cy="144720"/>
          </a:xfrm>
        </p:grpSpPr>
        <p:sp>
          <p:nvSpPr>
            <p:cNvPr id="833" name="Line 31"/>
            <p:cNvSpPr/>
            <p:nvPr/>
          </p:nvSpPr>
          <p:spPr>
            <a:xfrm>
              <a:off x="1044720" y="64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2"/>
            <p:cNvSpPr/>
            <p:nvPr/>
          </p:nvSpPr>
          <p:spPr>
            <a:xfrm flipV="1">
              <a:off x="104472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3"/>
            <p:cNvSpPr/>
            <p:nvPr/>
          </p:nvSpPr>
          <p:spPr>
            <a:xfrm flipV="1">
              <a:off x="176544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4"/>
            <p:cNvSpPr/>
            <p:nvPr/>
          </p:nvSpPr>
          <p:spPr>
            <a:xfrm flipV="1">
              <a:off x="2486160" y="6308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Text Box 35"/>
          <p:cNvSpPr/>
          <p:nvPr/>
        </p:nvSpPr>
        <p:spPr>
          <a:xfrm>
            <a:off x="901800" y="5734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7"/>
          <p:cNvSpPr/>
          <p:nvPr/>
        </p:nvSpPr>
        <p:spPr>
          <a:xfrm>
            <a:off x="1620720" y="57340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8"/>
          <p:cNvSpPr/>
          <p:nvPr/>
        </p:nvSpPr>
        <p:spPr>
          <a:xfrm>
            <a:off x="2197080" y="5718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572000" y="1413000"/>
          <a:ext cx="4356000" cy="48243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452600"/>
              </a:tblGrid>
              <a:tr h="101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距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1" name="Picture 67" descr="1"/>
          <p:cNvPicPr/>
          <p:nvPr/>
        </p:nvPicPr>
        <p:blipFill>
          <a:blip r:embed="rId6"/>
          <a:stretch/>
        </p:blipFill>
        <p:spPr>
          <a:xfrm>
            <a:off x="4714920" y="2492280"/>
            <a:ext cx="1084320" cy="8636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68" descr="4"/>
          <p:cNvPicPr/>
          <p:nvPr/>
        </p:nvPicPr>
        <p:blipFill>
          <a:blip r:embed="rId7"/>
          <a:stretch/>
        </p:blipFill>
        <p:spPr>
          <a:xfrm>
            <a:off x="4643280" y="3429000"/>
            <a:ext cx="1235160" cy="86364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69" descr="2"/>
          <p:cNvPicPr/>
          <p:nvPr/>
        </p:nvPicPr>
        <p:blipFill>
          <a:blip r:embed="rId8"/>
          <a:stretch/>
        </p:blipFill>
        <p:spPr>
          <a:xfrm>
            <a:off x="4643280" y="4417920"/>
            <a:ext cx="1297080" cy="811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0" descr="5"/>
          <p:cNvPicPr/>
          <p:nvPr/>
        </p:nvPicPr>
        <p:blipFill>
          <a:blip r:embed="rId9"/>
          <a:stretch/>
        </p:blipFill>
        <p:spPr>
          <a:xfrm>
            <a:off x="4643280" y="5353200"/>
            <a:ext cx="1297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39"/>
          <p:cNvGrpSpPr/>
          <p:nvPr/>
        </p:nvGrpSpPr>
        <p:grpSpPr>
          <a:xfrm>
            <a:off x="401400" y="2894760"/>
            <a:ext cx="4523040" cy="3273840"/>
            <a:chOff x="401400" y="2894760"/>
            <a:chExt cx="4523040" cy="3273840"/>
          </a:xfrm>
        </p:grpSpPr>
        <p:cxnSp>
          <p:nvCxnSpPr>
            <p:cNvPr id="846" name="AutoShape 48"/>
            <p:cNvCxnSpPr/>
            <p:nvPr/>
          </p:nvCxnSpPr>
          <p:spPr>
            <a:xfrm flipV="1">
              <a:off x="401400" y="6021360"/>
              <a:ext cx="4523400" cy="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AutoShape 47"/>
            <p:cNvCxnSpPr/>
            <p:nvPr/>
          </p:nvCxnSpPr>
          <p:spPr>
            <a:xfrm flipH="1" flipV="1">
              <a:off x="625320" y="2894760"/>
              <a:ext cx="17640" cy="327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Rectangle 46"/>
            <p:cNvSpPr/>
            <p:nvPr/>
          </p:nvSpPr>
          <p:spPr>
            <a:xfrm>
              <a:off x="626040" y="3278160"/>
              <a:ext cx="3214440" cy="27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AutoShape 45"/>
            <p:cNvCxnSpPr/>
            <p:nvPr/>
          </p:nvCxnSpPr>
          <p:spPr>
            <a:xfrm>
              <a:off x="643320" y="3954960"/>
              <a:ext cx="319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0" name="AutoShape 44"/>
            <p:cNvCxnSpPr/>
            <p:nvPr/>
          </p:nvCxnSpPr>
          <p:spPr>
            <a:xfrm>
              <a:off x="625680" y="4634640"/>
              <a:ext cx="3215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AutoShape 43"/>
            <p:cNvCxnSpPr/>
            <p:nvPr/>
          </p:nvCxnSpPr>
          <p:spPr>
            <a:xfrm>
              <a:off x="625680" y="5372640"/>
              <a:ext cx="3215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AutoShape 42"/>
            <p:cNvCxnSpPr/>
            <p:nvPr/>
          </p:nvCxnSpPr>
          <p:spPr>
            <a:xfrm>
              <a:off x="1435680" y="3278160"/>
              <a:ext cx="1080" cy="27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AutoShape 41"/>
            <p:cNvCxnSpPr/>
            <p:nvPr/>
          </p:nvCxnSpPr>
          <p:spPr>
            <a:xfrm>
              <a:off x="2264400" y="3278160"/>
              <a:ext cx="1080" cy="27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AutoShape 40"/>
            <p:cNvCxnSpPr/>
            <p:nvPr/>
          </p:nvCxnSpPr>
          <p:spPr>
            <a:xfrm>
              <a:off x="3041640" y="3277800"/>
              <a:ext cx="1080" cy="274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55" name="Text Box 61"/>
          <p:cNvSpPr/>
          <p:nvPr/>
        </p:nvSpPr>
        <p:spPr>
          <a:xfrm>
            <a:off x="228600" y="281952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4"/>
          <p:cNvSpPr/>
          <p:nvPr/>
        </p:nvSpPr>
        <p:spPr>
          <a:xfrm>
            <a:off x="90792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5"/>
          <p:cNvSpPr/>
          <p:nvPr/>
        </p:nvSpPr>
        <p:spPr>
          <a:xfrm>
            <a:off x="1584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3"/>
          <p:cNvSpPr/>
          <p:nvPr/>
        </p:nvSpPr>
        <p:spPr>
          <a:xfrm>
            <a:off x="1747800" y="604368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519280" y="603252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1"/>
          <p:cNvSpPr/>
          <p:nvPr/>
        </p:nvSpPr>
        <p:spPr>
          <a:xfrm>
            <a:off x="3308400" y="603576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9"/>
          <p:cNvSpPr/>
          <p:nvPr/>
        </p:nvSpPr>
        <p:spPr>
          <a:xfrm>
            <a:off x="4038480" y="5257800"/>
            <a:ext cx="1344600" cy="4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0"/>
          <p:cNvSpPr/>
          <p:nvPr/>
        </p:nvSpPr>
        <p:spPr>
          <a:xfrm>
            <a:off x="4243320" y="6054840"/>
            <a:ext cx="804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62"/>
          <p:cNvSpPr/>
          <p:nvPr/>
        </p:nvSpPr>
        <p:spPr>
          <a:xfrm>
            <a:off x="-228600" y="14040"/>
            <a:ext cx="1059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所示，小明从家到达学校要穿过一个居民小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区的道路均是正南或正东方向小明走下面哪条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能到达学校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76"/>
          <p:cNvSpPr/>
          <p:nvPr/>
        </p:nvSpPr>
        <p:spPr>
          <a:xfrm>
            <a:off x="-236880" y="2126520"/>
            <a:ext cx="76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→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77"/>
          <p:cNvSpPr/>
          <p:nvPr/>
        </p:nvSpPr>
        <p:spPr>
          <a:xfrm flipH="1">
            <a:off x="53280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77"/>
          <p:cNvSpPr/>
          <p:nvPr/>
        </p:nvSpPr>
        <p:spPr>
          <a:xfrm flipH="1">
            <a:off x="37332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3"/>
          <p:cNvSpPr/>
          <p:nvPr/>
        </p:nvSpPr>
        <p:spPr>
          <a:xfrm>
            <a:off x="15840" y="289404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4"/>
          <p:cNvSpPr/>
          <p:nvPr/>
        </p:nvSpPr>
        <p:spPr>
          <a:xfrm>
            <a:off x="228600" y="51055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5"/>
          <p:cNvSpPr/>
          <p:nvPr/>
        </p:nvSpPr>
        <p:spPr>
          <a:xfrm>
            <a:off x="228600" y="44197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56"/>
          <p:cNvSpPr/>
          <p:nvPr/>
        </p:nvSpPr>
        <p:spPr>
          <a:xfrm>
            <a:off x="228600" y="37339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7"/>
          <p:cNvSpPr/>
          <p:nvPr/>
        </p:nvSpPr>
        <p:spPr>
          <a:xfrm>
            <a:off x="228600" y="29718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58"/>
          <p:cNvSpPr/>
          <p:nvPr/>
        </p:nvSpPr>
        <p:spPr>
          <a:xfrm>
            <a:off x="2662200" y="83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4"/>
          <p:cNvSpPr/>
          <p:nvPr/>
        </p:nvSpPr>
        <p:spPr>
          <a:xfrm>
            <a:off x="468360" y="1047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腰梯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上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下底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底角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5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建立适当的直角坐标系，求各顶点的坐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5437080" y="2924280"/>
            <a:ext cx="2880000" cy="1008000"/>
            <a:chOff x="5437080" y="2924280"/>
            <a:chExt cx="2880000" cy="1008000"/>
          </a:xfrm>
        </p:grpSpPr>
        <p:sp>
          <p:nvSpPr>
            <p:cNvPr id="876" name="Line 5"/>
            <p:cNvSpPr/>
            <p:nvPr/>
          </p:nvSpPr>
          <p:spPr>
            <a:xfrm>
              <a:off x="5437080" y="3932280"/>
              <a:ext cx="288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6"/>
            <p:cNvSpPr/>
            <p:nvPr/>
          </p:nvSpPr>
          <p:spPr>
            <a:xfrm>
              <a:off x="6085080" y="292428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7"/>
            <p:cNvSpPr/>
            <p:nvPr/>
          </p:nvSpPr>
          <p:spPr>
            <a:xfrm flipH="1">
              <a:off x="5437080" y="2924280"/>
              <a:ext cx="64800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9"/>
            <p:cNvSpPr/>
            <p:nvPr/>
          </p:nvSpPr>
          <p:spPr>
            <a:xfrm>
              <a:off x="7524720" y="2924280"/>
              <a:ext cx="79236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11"/>
          <p:cNvSpPr/>
          <p:nvPr/>
        </p:nvSpPr>
        <p:spPr>
          <a:xfrm>
            <a:off x="536400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932360" y="3629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7597800" y="240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853272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5"/>
          <p:cNvSpPr/>
          <p:nvPr/>
        </p:nvSpPr>
        <p:spPr>
          <a:xfrm>
            <a:off x="5437080" y="3932280"/>
            <a:ext cx="3384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437080" y="1773000"/>
            <a:ext cx="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7"/>
          <p:cNvSpPr/>
          <p:nvPr/>
        </p:nvSpPr>
        <p:spPr>
          <a:xfrm flipH="1">
            <a:off x="5436720" y="2924280"/>
            <a:ext cx="64764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8"/>
          <p:cNvSpPr/>
          <p:nvPr/>
        </p:nvSpPr>
        <p:spPr>
          <a:xfrm>
            <a:off x="8101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9"/>
          <p:cNvSpPr/>
          <p:nvPr/>
        </p:nvSpPr>
        <p:spPr>
          <a:xfrm>
            <a:off x="507672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0"/>
          <p:cNvSpPr/>
          <p:nvPr/>
        </p:nvSpPr>
        <p:spPr>
          <a:xfrm>
            <a:off x="108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1"/>
          <p:cNvSpPr/>
          <p:nvPr/>
        </p:nvSpPr>
        <p:spPr>
          <a:xfrm>
            <a:off x="539640" y="458460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5076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3"/>
          <p:cNvSpPr/>
          <p:nvPr/>
        </p:nvSpPr>
        <p:spPr>
          <a:xfrm>
            <a:off x="608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58690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5"/>
          <p:cNvSpPr/>
          <p:nvPr/>
        </p:nvSpPr>
        <p:spPr>
          <a:xfrm>
            <a:off x="730872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6"/>
          <p:cNvSpPr/>
          <p:nvPr/>
        </p:nvSpPr>
        <p:spPr>
          <a:xfrm>
            <a:off x="7524720" y="2924280"/>
            <a:ext cx="0" cy="100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7"/>
          <p:cNvSpPr/>
          <p:nvPr/>
        </p:nvSpPr>
        <p:spPr>
          <a:xfrm>
            <a:off x="2409840" y="4584600"/>
            <a:ext cx="18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8"/>
          <p:cNvSpPr/>
          <p:nvPr/>
        </p:nvSpPr>
        <p:spPr>
          <a:xfrm>
            <a:off x="4284720" y="458136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9"/>
          <p:cNvSpPr/>
          <p:nvPr/>
        </p:nvSpPr>
        <p:spPr>
          <a:xfrm>
            <a:off x="6156360" y="45846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0"/>
          <p:cNvSpPr/>
          <p:nvPr/>
        </p:nvSpPr>
        <p:spPr>
          <a:xfrm>
            <a:off x="289080" y="278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直角坐标系如图所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1"/>
          <p:cNvSpPr/>
          <p:nvPr/>
        </p:nvSpPr>
        <p:spPr>
          <a:xfrm>
            <a:off x="395280" y="3716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顶点坐标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2"/>
          <p:cNvSpPr/>
          <p:nvPr/>
        </p:nvSpPr>
        <p:spPr>
          <a:xfrm>
            <a:off x="179280" y="5516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各顶点坐标分别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3"/>
          <p:cNvSpPr/>
          <p:nvPr/>
        </p:nvSpPr>
        <p:spPr>
          <a:xfrm>
            <a:off x="5435640" y="2924280"/>
            <a:ext cx="2089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34"/>
          <p:cNvSpPr/>
          <p:nvPr/>
        </p:nvSpPr>
        <p:spPr>
          <a:xfrm>
            <a:off x="5364000" y="386064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35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4"/>
          <p:cNvSpPr/>
          <p:nvPr/>
        </p:nvSpPr>
        <p:spPr>
          <a:xfrm>
            <a:off x="5068800" y="32148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4"/>
          <p:cNvSpPr/>
          <p:nvPr/>
        </p:nvSpPr>
        <p:spPr>
          <a:xfrm>
            <a:off x="6572160" y="3857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56:33Z</dcterms:created>
  <dc:creator/>
  <dc:description/>
  <dc:language>en-US</dc:language>
  <cp:lastModifiedBy/>
  <dcterms:modified xsi:type="dcterms:W3CDTF">2015-04-08T11:56:38Z</dcterms:modified>
  <cp:revision>1</cp:revision>
  <dc:subject/>
  <dc:title/>
</cp:coreProperties>
</file>